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C07487-7A09-439B-AEE2-1E21DDA26C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7E32E-152E-48E2-A3F7-AD3F1F40B1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9A79F3-DD15-4D27-804E-55AD9AA98F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64B4EC-305D-4265-862C-D6E49AA46C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D7B8B-2AB9-48B6-9010-F28CC11658E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ADC80A-341E-4E7A-AE1F-5A53D524E0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8B1C2-093C-4375-9182-B7998F4297C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455EC-B3EF-49AE-AEF7-B7D1295DC13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E2AAA-9493-4294-A64F-935D1CB0A6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324E9-9AEB-46B1-BD57-D73838EE5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B60F-5D0D-4881-A7F1-7AD1E71FB3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A70D-7638-4BD5-B822-7472AE1968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0BB7-EFB0-4169-AA83-FCB4A9D34FD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EE5D-54A5-4A01-8CD6-312DCD0847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0C9F-BB9F-41F3-8BF7-498553D6ED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2A39-74C6-4382-84A6-6844085F09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01AC-494E-44D9-AD70-FF798D16FF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83B3-2D85-44A4-89B2-69E20EF7185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CF73-F7B4-49D4-A860-CE68AD5302C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96859-DC8F-4BE4-A0AD-F39B39C6C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02E10-B7A0-453A-B358-C6C2E5CE36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E4921-A35B-4E4C-8BEC-A5DE2242E0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4FF89-F4B8-47DF-A518-290797EC2DD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7D3D9-0C49-4F3B-9691-B5CD165FDE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F3844-9376-4C76-9D89-93148583EA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2C5CF-7502-4D6F-BC9E-4E0D45118D1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7A04D-BA97-4686-ADD8-12C8B51754F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8E58E-06C5-4AE5-9914-7EBA65F027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0B899-441A-4277-8261-F36BCB7D5D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BC023-A874-4C76-910B-B040F06D1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AADA-6BA0-478A-841A-8627B4F906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BD9ED-1E16-43D0-BF6E-783B9724B9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882EA-85DE-4051-9AEE-C5BAD4EB0E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47AD0-FE28-4BCC-BEF7-D782F640C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54E4-7AC1-48D3-951E-7B1931756A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04C7-F874-45A7-AC34-9C88D11B6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1716-4CD7-4CA5-B05F-93E2055E6D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0E39-F3A9-434A-953E-E7E9527413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6214-9E24-4B18-BACC-6DC81B687A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D8AB-5E15-4915-8855-B4286FE57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FE57-4FA9-41AB-93DA-CA2CA02F7F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3891-90FB-4F9A-A0E5-43DD90DD2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BFF0-DF74-4A84-B9A3-89EB7CA32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955A-F597-42CF-B79D-309282A8F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E839-F2CB-46C1-9D46-1F8E6AC71B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F4ABF-0445-40B2-8A59-4CF9E86B19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D9F6E-EFC0-468B-9A47-5940AB8BA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88302-5746-4D08-84A4-69CE0B05D5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47C37-A234-4A8E-803D-E3CCC2500E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635AF-63D8-40D9-A944-D633099ED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BC4E0-FAF5-4D75-8774-668AA7C505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7BA70-E3CA-4BB3-A0A5-9F0597F04B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A089E-9886-4DD3-A7C4-EE974ADAE2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16873-B721-4091-B262-113439DD2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0F6BD-C836-43CB-AF73-90CFFF30A2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D88C9-02C5-4703-980B-3FBA30FE78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4E788-A7D7-4E08-8AC2-607749DA55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22B-6C8B-4250-BEDC-B2DBF6BABA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E99-E79D-4199-8348-884C0247C5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8711-E40B-4A1D-B07C-BCAD2FEC2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0941-1B17-4832-98BF-1F5526EBD0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C256-7A0C-432B-B66E-C81BB9F2A0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51F8-8B0D-4568-814D-AB8D141F33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77A2-C7E4-45BC-9830-1CCD494E5E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0AE1-9259-4C57-9DC4-BCF098F87E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53E8-3242-4AA3-86D8-D67CA16486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42F-87B3-418E-9895-3D683FF1D7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030-B7E8-4654-8125-8D686991BA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6BC6-0A61-4D8F-82F2-2C2FE83BBD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12CBA-8F89-44F0-935A-666E2FFC3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44C29-0014-4C57-AB0D-949DFB8DF2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2FEDC-EC02-4255-991D-DDFDEEE9A7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769CD-F5D8-49D1-8223-B5C05D2F93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DBB92-B4B2-4D93-8D64-78A6A79731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0BC27-72AB-4958-B371-17C0C5C3B4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FEC27-8636-4929-9526-173E0B2933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8011F-EA4C-4887-A586-23DFE9FB51B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7BD99-0167-4873-8C33-78614DF3B08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038A2-C376-4FF7-80CA-A1AB8E0F8D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683BE-0E78-4350-B0E2-662B0E5D7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5E876-C61F-4907-B668-29FE16B8E2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0B023-CC9B-4C37-83BE-7D4723A033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188EB-24BE-427C-B964-98129AD898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0920A-20ED-468B-B26F-D1A043FD61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B12A5A-BDEF-4AF2-8BDC-081E168924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C1547-3622-4517-86A5-7AA3F34326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3433E-4AA5-4E34-9FE4-54A528B652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B165A-1576-453A-BE1F-ECEE836D68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0BDBB7-8FB4-480C-BAAF-24129B2EFD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757C8-DB85-49AB-AFD9-F63C3BF71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1916E-0BD3-47C3-8505-117716CD48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B7A6D-2246-4459-B076-EB1DC4D2B3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AA6D2-DA0C-4144-B819-D7A291707D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A485-73CF-482E-A198-CD408A1144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1665-64D9-44EE-B59A-EAFF6F59BC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B018-8460-448C-BB7D-EAC828F502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B201B-8D74-44EE-B8E6-7106CFF35C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3B8D-CC4B-4FB8-8DB9-A869361841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AD50-1725-45FF-B114-3B75D8A1F2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2390-A7BD-41F5-95C9-82BF3BFFA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FE63-DC61-400D-A5E6-CA9C0F6446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19B0-00A1-4814-87E0-4C9B44BF32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1EAC-6F57-4F78-865E-C15605F5FB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C4F0-A386-4E05-A9A5-3AB9962065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D2B2-7172-4BCA-8942-F744A6C75E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9B588-5A5E-43B9-A976-AED8E8B19E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B9FF3-43D6-4A83-9F35-474757E499C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FF6AB-9807-4665-8AC3-BF805BC10B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7DE90-805A-4E61-8F20-BF6A1C6645D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6CF19-D809-48A2-84B0-5D6D4A147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39474-5C85-429A-A5DC-E220C4F48C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07501-AC41-440D-B446-7F5C2159DF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E8F25-B974-40E0-A1F6-92B581F193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6EECD-F768-4033-88DA-EDF23F0FED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A4ADE-1C22-4902-8563-A516B9C708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2CEC2-32A2-4E62-BC54-24DC5D3F59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2A285-A9B0-4D71-92BB-59DD30C9AA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CD1A28-5970-4CF7-9926-3EE394DF02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063D6C-2F01-4489-A991-18ABF6ADE6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5DD5B-C849-471F-8D4A-7043486B0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45A-19DF-4F09-8435-6D79F47D5F8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B63-419C-4903-BB88-EEB613A50FB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85BA-93DC-4B32-BF15-06C4BA2132A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F0FF-84CA-4211-A82F-2A17066FADB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DEC-6823-4A13-BD9F-CA29E5B9863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461-CC19-40BD-9362-62227C432B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81D-C4F6-4720-A235-7293157504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1A93-12E3-49AE-AC88-8586CBFB0B9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8112-C49A-43B3-B8D9-2B3B1447FAC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C1C-F719-4C21-ACC9-077D652B50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Fashion aesthetic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Marco Sammichel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(NO 1°anno Pssd e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ngle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 Polimi + 2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GRAMMA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città come generatore di estetiche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corso utilizzerà la città di Milano come piattaforma per individuare tempi rilevanti capaci si produrre una visione e suggerire un metodo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trambe gli aspetti saranno associati all’industria culturale della moda per spinta innovativa e applicabilità professionale. Attraverso casi studio, visite e lezioni frontali si passeranno in rassegna alcuni legami tra discipline come l’architettura, il design, il videogame, la spiritualità, l’arte e i loro fertili riflessi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seminario interno al corso dal titolo «La reazione al  nuovo» racconterà i passaggi novecenteschi di concetti come «wunderkammern», «palazzo enciclopedico», «casa museo», «reload», «fundamentals»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valutazione dell’esame si baserà sulla media di due prove in itinere, una presentazione di un catalogo digitale di fotografie, illustrazioni e commenti della missioni sul campo (visite di mostre e incontri pubblici) e infine un colloquio orale sulla bibliografia e le lezioni del corso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same si potrà sostenere anche il lingua inglese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illiam Gibson, L’accademia dei sogni, Strade Blu Mondadori, Milan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uno Munari, Da cosa nasce cosa, Economica Laterza, Bar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ce Rawsthorn, Hello world, Hamish Hamilton Penguin Books, Lond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Immagine 1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8770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Francesca Onofri</cp:lastModifiedBy>
  <cp:lastPrinted>2003-05-08T11:08:41Z</cp:lastPrinted>
  <dcterms:modified xsi:type="dcterms:W3CDTF">2014-09-01T08:06:12Z</dcterms:modified>
  <cp:revision>213</cp:revision>
  <dc:subject/>
  <dc:title>Inserire immagine della locandina, possibilmente in trasparenza e aggiungere Facoltà di Architettura Illustrazione prova di ammissione prof. Silvia Piardi (idem Cedolin)</dc:title>
</cp:coreProperties>
</file>